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383-A5F7-42F5-B691-8AA7C815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CE5-7E03-469B-96AA-930EAE99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FA0-2344-4B91-A8ED-0E506C77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136-1A51-4B63-B28B-FFDB3D74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8072-75EE-4652-B679-5C9431CE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3CA-7A8E-4CFD-AEC2-FB6DA3A6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4BA-2D09-4FED-BEF6-D49BDB44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FD8-EA13-42FC-B3BC-97712063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F82-A8E3-4363-8FAD-98F3D59B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650-0698-420B-BFA5-D126DF15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2B38-2A76-42F4-9B7F-7682D2E2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6D1-DE5B-4BB6-8238-609B34BF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0A6D-8941-4A22-9C35-FB2269DC1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omic Sans MS"/>
              </a:rPr>
              <a:t>Int 1/Int 2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79250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kills and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esson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Wednesday 9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Dec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ractice St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773360"/>
            <a:ext cx="84582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 this stage we are practicing for the following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 improve consistency of the sh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 link each part of the skill together more flu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ractice St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557360"/>
            <a:ext cx="8458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actice sh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epeated. 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  a closed environment. 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itially self paced. 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radual increase in pressure. 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ractice St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844640"/>
            <a:ext cx="8458200" cy="23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acti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olated feed with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ntinuous r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Automatic St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1773360"/>
            <a:ext cx="84582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 this stage we are practicing for the following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 maintain consistency under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 perform the shot automat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 have a tactical awareness of when to use shot and how to disguise sh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Automatic St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557360"/>
            <a:ext cx="8458200" cy="38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actice sh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ore game l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creased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ore op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aced by partner not 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Automatic St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557360"/>
            <a:ext cx="8458200" cy="30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acti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mbination r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essure dr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nditioned g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84464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By the end of this lesson you should all kn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What the three stages of learning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Be able to describe the characteristics evident at each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What methods of practice are appropriate at each stage and 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413000"/>
            <a:ext cx="84582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Homework – preparation for part 2 of your N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tudy everything that we have looked at on model performer and stages of learning.  Prepare 2 essay responses on all you know about bo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art 2 of NAB – Wednesday 16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December period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84464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By the end of this lesson you should all kn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What the three stages of learning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Be able to describe the characteristics evident at each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What methods of practice are appropriate at each stage and 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tages of Lea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341360"/>
            <a:ext cx="84582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itial Ta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rite down the 3 stages of learn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gn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ssoci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utonom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tages of Lea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341360"/>
            <a:ext cx="84582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ask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ead over the ‘Stages of Learning’ theory sheet.  Write down 3 characteristics you would expect to see from a player at each st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g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ssoci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utonom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tages of Lea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1337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hy is it important that we know about stages of learning in order to improve our performan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tages of Lea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341360"/>
            <a:ext cx="84582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ask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rite down the what practices you feel are appropriate at each of the 3 stag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gn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ssoci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utonom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reparation St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557360"/>
            <a:ext cx="84582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 this stage we are practicing for the following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 learn the correct technique for each part of the skill (P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 know how the shot should f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o groove the correct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reparation St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55736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actice should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low to allow player to think about the technique he/she is trying to per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 a closed environment. 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lf paced. 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ery limited pressure. 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reparation St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557360"/>
            <a:ext cx="845820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acti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1. Shadow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2. Isolated feed with no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 player in the cognitive stage of learning should always start their programme of work with these prac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12-08T15:56:46Z</dcterms:modified>
  <cp:revision>30</cp:revision>
  <dc:subject/>
  <dc:title>Intermediate PE</dc:title>
</cp:coreProperties>
</file>